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A94-1CAA-47F2-98F6-5E5DCBDC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B6B7-DA92-46E2-92E3-195EE1017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8AE-5899-4103-BA96-6F60F0738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6230-5FC0-4415-983D-866D84B7D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E61-8B3A-4B98-B8F5-C285C9B02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ABE9-3341-4779-960D-07AF07485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C28-4C35-4B33-A96D-CC1FFB460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C99-AAA0-4534-8AC0-1F9BAC724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A72-DCAE-4734-B2E5-AAF1C848B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9AB-E9C5-4795-8433-BE91DA4F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A55-5562-4B08-8E90-62E4E239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C4C-33C6-4550-A568-396EFBB8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26B-D37D-465B-A4D1-30F7167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DD4A-100B-4E71-A992-F14FD8A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0079-D515-4A7F-B9E8-9301AB60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6C5-197B-4E36-B654-0AE5CB6F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0B1-4305-46F3-A42F-07DF65E9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E6B0-14C8-4213-8E89-1AD4C665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511-2889-43A4-BF60-3BF15C2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81B-230A-4C31-9DA8-C035FF6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C41-2D57-47CA-931B-87AAF0F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B9F-4E02-460C-A237-6EF3104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B643-0333-474A-9272-AAC64E2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3BA-0734-40A8-97E6-793DFAD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DD7C-22CB-4B78-96C3-B8F32739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AD04-EF9F-4BF7-B47F-064A618B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3B0-044D-4B91-8E52-32C8B60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1A3-D03E-44EC-ADE3-50BA0531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AF9-115D-4B84-80EB-39FDD13F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157-E138-4DA4-BDF6-819953B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250-35EB-4243-85EA-AC1A310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25A-4FBB-490D-AAA5-7A9F8BA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CA6-7667-4193-9381-72DCD45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A46E-22AD-461D-ACDD-E6BD5DD2C16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631B-8443-4671-9244-6E646D7C2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F826-9FFF-4E66-8074-D3C97A0F30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Anticipated Cars for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kill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D31-DC39-4FC6-A28D-0FE8B1AB6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4925-B477-4B86-BEB5-31E396FE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F02-3757-4C24-AB2E-07E6D7BAB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55F-AA63-4CF3-BE67-7CEFE79FC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6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l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yl.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mo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ode driv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 mi. Electr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liter gas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AA2-9B15-4159-A373-F9FE21D2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uld zip with fuel to s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–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–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-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. single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6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4 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5 l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 cyl.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mo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ode driv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 mi. Electr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.4 liter gas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elec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??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423-ADD1-4498-BDE7-F5EBA39F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e to comple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rt with your partn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ny “missing inform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“questions that you have” that were not answered in the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 code – best = green, and worst = p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9788-E979-441F-9909-62130417D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a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es th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es $$ in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b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ranking of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5C94-1CA5-4CC9-AD80-A3BF2CF17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ed on what you have learned from a more careful synthesis of the ideas/fac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I did not have to worry about the purchase price, I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buy the ______________ .  It is my first choice because _____________________________________,  _______________________________, and ________ __________________________.  My  second choice for a car would be a___________.   But if I had limited funds, I would settle for buying a  ________________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EED-2D4C-4FFC-92C3-2E2F3D69C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we begin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all the facts from the Round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finished the story, you made a decision about which car you would bu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then we looked at a few individual elements that you might consid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EE8C-1A93-4056-A1FE-6E71420D6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do you like the looks of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362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419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419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748A-ABFE-437A-81C0-4284BEE42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gets the best mileage? 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267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191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185-98C6-46A8-85DB-9685EF50C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 initially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8E3D-4DA4-44F1-8C17-63753E7C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, keep for 10 years and add 15,000 miles each year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hevy volt.jpg"/>
          <p:cNvPicPr/>
          <p:nvPr/>
        </p:nvPicPr>
        <p:blipFill>
          <a:blip r:embed="rId4"/>
          <a:stretch/>
        </p:blipFill>
        <p:spPr>
          <a:xfrm>
            <a:off x="1676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8006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7672-AAE2-4601-9D98-CEEAAD9FF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, I am going to demonstrate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rocess that includes synthesis that helps you make a decision based on many critical attribute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DDD-231D-459E-AE7B-88F4F0F83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3254-594A-4F76-840A-258C05BF8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antic Featur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5 Ford Fi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at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nda CR-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vy 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ssan LE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c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9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32,780 + home station $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619D-FD64-440E-8A0F-4F67D3BFD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10:27Z</dcterms:created>
  <dc:creator>USER</dc:creator>
  <dc:description/>
  <dc:language>en-US</dc:language>
  <cp:lastModifiedBy>lhockenberry</cp:lastModifiedBy>
  <dcterms:modified xsi:type="dcterms:W3CDTF">2011-03-01T15:19:29Z</dcterms:modified>
  <cp:revision>17</cp:revision>
  <dc:subject/>
  <dc:title>Most Anticipated Cars for 2011</dc:title>
</cp:coreProperties>
</file>